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59B5-9F50-4F87-9E64-0392C2C3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E52F-0BAF-44C8-ADC7-A030BB99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6F9C-9ED3-4AB0-8EAD-D17F148F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001A-0EF3-4E70-AF75-89A7D57A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9DF-9488-44C3-AE19-C8DB34B30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CFB-89D3-41CD-8937-57A0A9CA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6 – Fail Safe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805-475A-45DE-893A-6C46F340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E933-0ADB-4321-A439-0C685239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BA3-378F-4063-94A4-CD85F63D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9792-5CF3-4808-8FF7-F9507207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F9A-E395-4C99-ACD3-C728C2E2A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477-CF8C-44EA-8133-01BE67C5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EC46-1855-4779-9C5F-44DCB6FFA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2E05-5686-4178-B8F4-16E21B463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5EA-B261-455C-A488-CB776B83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BL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D29-25A1-4CB0-AB2A-B14E745DC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4FD2-4F00-482F-9265-B282D447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CFA-1A46-401C-AD65-A07D48E6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ADBC-529F-4F0C-9DBC-15045381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F43D-D46D-49CC-A1E9-32B9E51B4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C93D-27E1-4D67-BED1-DAD0D2B1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9164-6734-4A7F-9CA2-96F49C3E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617-3855-4317-9500-832B22AC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33F-C5EC-49FE-97C3-FE1489B8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 – View and Discuss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b – Four Corners signage (View and Discuss tit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B73-416A-4B4D-BA93-6C25E687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425-3D9D-45D9-A44A-8B5D73D2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F4AA-D61A-410E-97E1-3B807B38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D660-300A-48FD-815F-5BBF50FB1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647-0BFC-4D36-BFDF-184AF981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responses on chart paper, or create electronic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D304-6FF3-449B-A1AC-ADD20FCA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2 – Brandon and Alexis Money Problem (Possible difficulty and alternate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C8C-CEC3-42EA-ADCF-182D4672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E8C4-99C5-49C1-8584-A3A165E8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F86D-A4D9-4869-867C-09970FE87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we did that with the PPQ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6E5-D387-4AB4-A4D7-DD965A3A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8451-448E-4704-8F4B-96C29182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8EDA-4EFB-4981-963B-5B52B9B4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34B0-AABE-4560-8447-C6F61AC9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A16B-3B9A-449E-B5E6-37DE1148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675F-0725-4A62-8EF6-908CC507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8F78-4B6B-4B10-AD89-DD4349A6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A26-EECC-43D9-B2A1-C1328E5A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A94-9B8F-423B-A986-5EFEA0C5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9E6B-1DE9-49E5-B89B-C2C58713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2E4-8853-4A5E-B8A9-B38C0E75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2EFC-2A4E-4A4B-9E6A-BCCCBE0E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5EE8-340C-4D8A-B247-4C427744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CE2-BD0B-4E0F-A7EB-E822BCF93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BC4D-EB10-426E-AC30-14296F7EE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305-DC17-4448-9934-A589B671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689E-99BC-47BF-834B-99B5D01E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0D28-3A3B-42DD-8D1C-CF952FE4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541E-4325-4E50-94E6-E73E72956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A8C7-5F6E-43B3-9CB0-A91F99B7A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solve one of these before the common questions are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D16-0CB8-4E82-B0D9-0F0DF6397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A685-1498-4A07-80B9-6960FF69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6229-A1C1-4B5B-8CBE-FCCD3004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597-C730-47F4-9597-A1FA62C5C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nee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o groups – 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ED7-665C-4A57-BC0A-1931A9C0D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3E0-E257-4F5E-B953-D4BAD8A5F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C6C6-D5BD-4E8C-B3AC-FA0A112C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C4D-697B-498F-8585-F7C9AAE5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3A3-D648-413A-81C3-F47D2A6A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606E-4B98-46C7-B5F5-CAE10127F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F72-0015-4D3E-9F80-53A1E8F7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E7E9-6A01-42EC-9CD2-3D2F003B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C111-8DFB-45FF-8982-3E3FD8856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12B3-F92E-49AE-8D71-E9240877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(n +1) or 2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1) or 2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-n)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 + 2 + 1  or 3 (n+1) 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BBB-C315-4334-9A79-529D1BF6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E4C-65C2-43B6-B3E8-6A1EB286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C14-603F-469B-8EC0-F9FBA4B9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F944-3BC1-4AA7-93A2-77D73605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8917-F8D2-4310-8F54-20AB3E8FE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4238-C49A-4627-AE44-CE1183F3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E4B-FA3A-4E72-9200-DE9A54FE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658A-E406-45BA-9FF0-46025C1F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70A3-86E9-433B-ADEF-9FBB39E0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Virtual Tiles IWB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F08-1230-40C1-885B-3C336B575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F439-F8C3-4CEE-B2E8-14C20B13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 (Parallel Task Samples You’ve Seen) and BLM 4 (Parallel Choices reformatted with common questions column bl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C5B0-FCDB-43E9-9459-82E90BAD0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(from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55F6-FA96-4F8E-8527-1D756C81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ge needed here – Each option name per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0F3-ECB7-4075-835E-878CF47C2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65D-4B82-4E7F-90C4-F2A2C48E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2B9-6B5A-4E1B-9319-7BD9EA97C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2DED-4211-46AC-B806-5123FEF4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3FD5-C39F-454B-B268-4364568D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4F3-0CE4-4675-9E43-5477E0F2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517-6506-431E-9BBE-91694F15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DA0F-307E-421D-8F84-1557559D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036-C7BB-41A7-A2B3-D5E542E1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80D-9A05-4861-9469-F0BAFE2D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26C-45ED-489C-B7A1-2127296F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5CA0-61ED-45D5-8886-E9E0E5A0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476B-48C7-48D4-806D-E2822EE1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FF82-623A-42E2-BA5D-1E594AE4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D3E-16DE-493A-B08B-065A984B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767-A602-4727-B529-F93A925B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ying to see if students have met the goal; coherent whole (BI); meet the curriculum expectations; may be considered modification if considering parallel tasks in conso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BF3D-CB4F-44C2-8FF7-C103703A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 would be possible for examples; possible BI sugg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xamples from Minds-On, Action! And Consolidate/Debrief (2 from each) will appear in PPT; BLM 5 will include the other 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7F03-B26C-4D61-8955-52389FD6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just ask the open question and walk away– you ask probing questions, just like we used common questions for parallel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4F1-F4CF-44D1-9660-0790256C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m which big idea  (it’s BI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F533-183C-47A4-BD8A-DD88C7BF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340-676A-4D6F-ABF0-52FA3589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y see that open activities benefit the weak and the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574E-52FC-4A1F-BC40-1AB8E28A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84A5-1F87-4FD6-9786-DAA23F06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018-7247-417D-84CF-145383AA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99F-BE34-416C-B0BF-98A3BC9F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40F-B1DA-488F-A8D2-29223FDC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hem to know the difference between equations with single solutions and “ident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4A8-7372-48C8-BB73-C5F18823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BE72-FAE9-40BF-9A09-D1D77282E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5 – Open Questions_Matchin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F8F1-20A2-47DF-A1E1-F07BBC09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FF8-576B-4997-86DB-4250774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ADC-AE24-4E0B-A02F-A0E0CB26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29E-9CEE-4D3B-BCDB-A49555E0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52B-ABA6-4A27-BB55-B00C2263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4D5-6B27-4D6C-A3E4-9404261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7B9-832E-44C4-BDC1-7A76F5C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588-1B68-4217-8BB4-63A3A6F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84D-513B-4FBB-96B0-21B39D2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AB0-AB21-43AF-AF70-74856801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6B4-5D13-4EA4-9B7F-CBB25DF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97A-6D8F-45C4-8305-A94FD12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D33-A95B-4F90-91A2-E0DC926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960-B53F-41D6-9D13-8BE6ECC616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2BE7-E3C7-4608-8D78-581FF78442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8710-7367-4A09-AB07-FDEBAD5570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905120"/>
            <a:ext cx="82296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time to work on consolidation/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big ideas/from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der in PPQ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consolidation in class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84160" y="1895400"/>
            <a:ext cx="7813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pen questions did you find most difficult to place? 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imilarities and/or differences did you observe between your choices and those of your col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726B-7656-4FE5-948C-4B6C0572DE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910A-7327-4080-9374-476855E2D6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76C-95D2-4539-B579-8FAA682F9B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5718-552D-4A66-A455-8054BE2080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BDE-9EAA-4AF5-B005-297AA77EAA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6B22-58EE-41F3-AE7E-73C72A8413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one of the following tasks. Make it more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B6B5-8B6F-4974-84FC-42FD0119B4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14 $5-bills. How many toonies do you need to have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FAD-190B-4996-9C62-4FB6778AB8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ACC8-3087-4A6A-8D7F-ABB00661B7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D2F6-2DD1-4CDD-9346-5DFDF4B417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-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847800" y="1909800"/>
            <a:ext cx="7610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board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resource(s) that you brough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ust one or more parts of a lesson by incorporating an open question and/or parallel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PPQT to record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have any other outstanding questions from Day 1, please post these on our parking l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E14-6384-4B27-9F05-F92A19F9CC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D803-3733-4ED5-B3B5-1B661341A5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Break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47800" y="1909800"/>
            <a:ext cx="761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/B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 Do” Between Sess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03040" y="2187720"/>
            <a:ext cx="8677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vis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5D70-A62C-418F-A3DE-7008AACE69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884160" y="1749600"/>
            <a:ext cx="715644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47640" y="1905120"/>
            <a:ext cx="775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planning a lesson, you design backwards: focus in on a goal and plan your lesson around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1AC-6083-424A-8AFD-CEEA3336FE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990720" y="1905120"/>
            <a:ext cx="7794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for a lesson is created based on curriculum expectations, but filtered through the lens of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8586-25D5-40FA-8EA7-10A37BD2C8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76360" y="2057400"/>
            <a:ext cx="8099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(s) to consolidate the goal are essential and may inform other part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3CD-86BB-4637-BB65-357ECEEF2A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84360" y="2057400"/>
            <a:ext cx="77738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es to consolidating question(s) are useful assessment for learning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49A0-80F6-4977-B03C-AA1AFB779A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914400" y="21034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need to reflect the goal, whether the lesson is a concept-building lesson or a practic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335E-EA45-47EB-90E9-F3A6D48EC2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84360" y="1905120"/>
            <a:ext cx="7991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is more than just “do another on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2D9-A5EB-4AB9-BC68-44186E5607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9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47A-162C-4DE8-9309-4BDDF13E69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for the View and Discuss between-session opportunity you took advantage of OR are most interested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CD2-E83F-4018-B766-A9DA09B103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9907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2060640"/>
            <a:ext cx="79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look at a problem we might plan to use to see how thinking about difficulties students might have could lead you to alter the problem or differentiate the ta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1A2-ABAF-4A4A-A1D8-4FABF86A79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 this is the scenari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182880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789B-0967-4892-AD18-E0BEED44E8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icture 1.png"/>
          <p:cNvPicPr/>
          <p:nvPr/>
        </p:nvPicPr>
        <p:blipFill>
          <a:blip r:embed="rId1"/>
          <a:stretch/>
        </p:blipFill>
        <p:spPr>
          <a:xfrm>
            <a:off x="252360" y="25956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4360" y="1828800"/>
            <a:ext cx="77994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6A77-094B-4BFA-B612-A8882A985D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066680" y="129528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510-8540-4AEE-A884-ACD4CB2271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“top 5” list of anticipated difficul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9B1-11DD-438C-AB76-230090F1B3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079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 at on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746360"/>
            <a:ext cx="831708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e hand-out showing one approach to dealing with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pair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 an alternate problem based on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EA27-F38E-47BF-AE41-363D2CBB8D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057400"/>
            <a:ext cx="7645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alternate problem address the difficul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410-E769-4924-9A2A-C4186CE98E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990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is approach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26920" y="2057400"/>
            <a:ext cx="76568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ting instruction, maybe offering one problem to some students and another to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A8B3-CAF0-48A0-9B5F-20BF4703C2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5B4A-4B9A-4A68-BD1A-33BD4BDCF0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3492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FE7-FABD-4132-92ED-D7BDE82452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/or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C207-0365-496D-A187-D247EC06C0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01640" y="990720"/>
            <a:ext cx="76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on Guide for Grade 8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BF67-674F-4E73-852F-BB3F888D31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60400" y="2771640"/>
            <a:ext cx="5562720" cy="3676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28600" y="2590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01640" y="99072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it Card,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0C5-E3EF-4013-BC3B-C3D874227C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760400" y="2114640"/>
            <a:ext cx="5524560" cy="432432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le 6"/>
          <p:cNvSpPr/>
          <p:nvPr/>
        </p:nvSpPr>
        <p:spPr>
          <a:xfrm>
            <a:off x="1760400" y="4159080"/>
            <a:ext cx="3724560" cy="584280"/>
          </a:xfrm>
          <a:prstGeom prst="roundRect">
            <a:avLst>
              <a:gd name="adj" fmla="val 16667"/>
            </a:avLst>
          </a:prstGeom>
          <a:solidFill>
            <a:srgbClr val="ffcc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2168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06D8-45C9-4935-A4C6-CF65FDC0A7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ny of us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90720" y="2023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9084-32EA-464B-A93D-CA0834A238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202392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136B-F3B2-4375-AB75-0CEF4F4E29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92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bout creating a linear growing pattern beginning at -10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F6AB-B041-4F76-9A91-F8AEB07550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2692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945-CED5-48D6-9FBD-DA28FAC0A1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diffi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00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anticipating the “difficulty” some grade 7-9 teachers might have with grade 11 or 12 content, we differentiated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7FD0-2476-4452-955E-00A8ECCDBB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26920" y="216864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 at the same instructional goal, with the anticipated student difficulty addres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1D80-A946-40B8-BA55-EC3A808C22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26920" y="21337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at your listing of alternative Brandon/Alexi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ay have already created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A8A8-AA0A-4938-BAC2-09C933B9F8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55640" y="2023920"/>
            <a:ext cx="764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out any goal setting/question writing activities related to our last s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what happened with a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7BA0-C97C-4595-938E-03B81DA5CD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ll that’s mis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20970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how to handle the class when different students work on different tasks focused on the sam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’ll address tha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D7A-3DF6-44CE-8330-C5405DCAEA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830-49D3-493B-8118-A935358B43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icture 2.png"/>
          <p:cNvPicPr/>
          <p:nvPr/>
        </p:nvPicPr>
        <p:blipFill>
          <a:blip r:embed="rId1"/>
          <a:stretch/>
        </p:blipFill>
        <p:spPr>
          <a:xfrm>
            <a:off x="108000" y="2133720"/>
            <a:ext cx="9144000" cy="35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79200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lan to ask: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84F-5D66-4DDC-B4F5-5EDFFF3B62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168640"/>
            <a:ext cx="7835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some students may need more time with positive slopes before they are ready for problems involving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EA4-C67B-464B-A3B4-D933B7786A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ing at the goal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3205080"/>
            <a:ext cx="8209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slopes are not really required. Students could address the goal using either positive or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DE5-BFA8-41AB-9718-38BCA3BDE6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Picture 1.png"/>
          <p:cNvPicPr/>
          <p:nvPr/>
        </p:nvPicPr>
        <p:blipFill>
          <a:blip r:embed="rId1"/>
          <a:stretch/>
        </p:blipFill>
        <p:spPr>
          <a:xfrm>
            <a:off x="380880" y="2057400"/>
            <a:ext cx="836784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63640" y="21337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reate parallel tasks, offering choices accessible to mor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F31-2D61-44E2-B4A6-2A01970D2A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876920" y="190188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82880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BF7-8DB1-4955-BEB2-A8DA7F9B03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CDD8-6156-4332-877E-E964DB2B10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2149560"/>
            <a:ext cx="8022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F9C-E286-45F7-886C-ACD4228551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2149560"/>
            <a:ext cx="83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your points and how did you get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id many of you choose points with x-coordinates of   -1 and -7, but not -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5D24-5183-4F96-B590-7A242E9091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6360" y="2097000"/>
            <a:ext cx="8208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tried this activity, what was it connected to? (e.g. norms for collaborative 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as the value to you, your students or fellow colleagu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else could you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F5F6-33D1-460C-AEF2-CA7255B4B8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6364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in a 3-par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EAE-7639-4ECB-A730-22CD65AB4E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icture 2.png"/>
          <p:cNvPicPr/>
          <p:nvPr/>
        </p:nvPicPr>
        <p:blipFill>
          <a:blip r:embed="rId2"/>
          <a:stretch/>
        </p:blipFill>
        <p:spPr>
          <a:xfrm>
            <a:off x="137160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Picture 3.png"/>
          <p:cNvPicPr/>
          <p:nvPr/>
        </p:nvPicPr>
        <p:blipFill>
          <a:blip r:embed="rId3"/>
          <a:stretch/>
        </p:blipFill>
        <p:spPr>
          <a:xfrm>
            <a:off x="1371600" y="4648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7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4EFC-6916-4F69-8C9F-C5CA384ACF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e previo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vious parallel task could have been the Action! if slope had just been introduc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FB2-3F1B-4609-8395-4F821A7486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19280" y="99072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85800" y="2133720"/>
            <a:ext cx="802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could have been the Minds On if students already had significant experience with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3D55-ABFD-4869-A873-6E3945308C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8FF0-D267-4615-A636-54F4FA449C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Picture 1.png"/>
          <p:cNvPicPr/>
          <p:nvPr/>
        </p:nvPicPr>
        <p:blipFill>
          <a:blip r:embed="rId1"/>
          <a:stretch/>
        </p:blipFill>
        <p:spPr>
          <a:xfrm>
            <a:off x="144360" y="2276640"/>
            <a:ext cx="9144000" cy="37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igina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4360" y="23842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d planned an activity where students would translate a series of algebraic expressions into words and vice-ver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6D8-A355-4ADD-8A2A-7703A29B73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4956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realized that some expressions may be much more difficult for students than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E1E-F071-4506-A8AF-134200440C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he more difficult ones addressed, but you need to build su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2EB-5FA5-4F51-BE5F-26F1106D33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62120" y="2149560"/>
            <a:ext cx="7619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each of the three phrases as an algebraic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A6FA-9328-4155-B2E7-9B06DF0986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03280" y="2023920"/>
            <a:ext cx="39607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a numb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0655-8B0C-4AFE-881B-860AB46E3C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680000" y="2019240"/>
            <a:ext cx="42354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1 to a number and then doub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 and then divide by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, add 2 and then add 1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ticky Note Pileup Exemp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76360" y="209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&lt;Insert Shirley’s picture(s) of sticky note pileup poster here&gt;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FB3-11B4-4B11-AE1D-931EAEE55D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19051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operation signs appeared in your algebraic expression? Why th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there other ways to write your expression?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EC3-FF15-4FC1-9B13-23DF7CA911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214956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it matter which letter you used for your variable? Why or why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was easiest for you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CC9B-F126-445C-AF80-6DF133CF48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14400" y="19051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have ended up with the same expression with slightly different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it’s easier to use the algebraic expressions than the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D8E-1EF5-408C-89BC-B570F57D28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068-7834-48F8-8FE9-7F7D1ACD0A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Picture 3.png"/>
          <p:cNvPicPr/>
          <p:nvPr/>
        </p:nvPicPr>
        <p:blipFill>
          <a:blip r:embed="rId1"/>
          <a:stretch/>
        </p:blipFill>
        <p:spPr>
          <a:xfrm>
            <a:off x="181080" y="2330280"/>
            <a:ext cx="9144000" cy="3870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articular operation the student uses is irrelevant to th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499-8DBA-4FA2-BA0C-AD5D8DD8D1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4360" y="1909800"/>
            <a:ext cx="3773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730760" y="1909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EC34-61D0-4C59-B3C9-8E23F2E770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D807-A0F5-40C5-A124-3B01BC8D73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38D4-241E-4F5F-ACEC-FE8180F5E6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904000" y="5842080"/>
            <a:ext cx="2089080" cy="459720"/>
          </a:xfrm>
          <a:prstGeom prst="rect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9810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1835-E624-4574-870E-F349C90ABD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A90-31E6-4898-A1A9-D45E54E2BE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99072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03280" y="2724120"/>
            <a:ext cx="817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requiring more focus for you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F1AF-5FF6-41CD-AF6E-0509BDB920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2120" y="1895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A49E-54AD-4A5E-94D6-E4CBDB55FD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19969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63D-E72A-4B76-9221-2C21F39913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279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35B0-6D1C-4406-A3B6-115B11CF22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04F-7DD2-41E2-AB39-14E4952C5B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26920" y="216864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E8F-895C-40DF-B3EB-B8DB90088C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90720" y="2209680"/>
            <a:ext cx="7650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lation the graph could repres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6B4-5D4F-468C-8AE5-80B9C643BA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C293-026A-4FA9-A03A-4FF4618B84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F59C-8D5D-4158-B880-1A68C9C47F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0" y="198108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646-5A72-4C60-BDB4-13AC030109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315F-D7C0-480D-B754-98A1514CFD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3520" y="1712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1981080" y="4056120"/>
            <a:ext cx="609840" cy="1219320"/>
          </a:xfrm>
          <a:prstGeom prst="upDownArrow">
            <a:avLst>
              <a:gd name="adj1" fmla="val 50000"/>
              <a:gd name="adj2" fmla="val 398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4800600" y="4970520"/>
            <a:ext cx="167652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4876920" y="5808600"/>
            <a:ext cx="1295280" cy="533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441960" y="6302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900000" y="2023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9A00-7875-49F8-9C1A-8A5C574E5B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863640" y="17733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E62-B969-4560-952E-6D925DB3E9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792000" y="15922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lesson is going in the right direction, but needs a few “tweaks”; recognizing what students have said could hel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2BB0-ADDE-4001-94FF-A2BD748BB1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503280" y="1096920"/>
            <a:ext cx="81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questions and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468360" y="2835360"/>
            <a:ext cx="8351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might be more vague than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00C-87AF-4E55-8E7C-F2960A7060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90720" y="22096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D9A-1D22-4B13-9323-9338797A56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55640" y="2209680"/>
            <a:ext cx="795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name another point on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B20F-CE72-46FF-AB21-B857C9083F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03280" y="2057400"/>
            <a:ext cx="824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 questions suit the Action! and perhaps Minds On, but not likely the Consolidate/Debrief where things are pulled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857F-DC56-4A8F-854B-344777A2E8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 On open question related to Big Idea 5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244D-1ACA-4A09-BACD-1F16E788F7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0CA-BE0E-4132-89D8-65BA46CEDF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066680" y="2057400"/>
            <a:ext cx="7315200" cy="31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line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know that x + y = 5.  What else do you know about x and y?  (Related to BI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8BC-9F13-431A-BE97-A4ACBA90FB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744560"/>
            <a:ext cx="7772400" cy="50072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4419720" y="4030560"/>
            <a:ext cx="213336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435560" y="5249880"/>
            <a:ext cx="1295280" cy="533520"/>
          </a:xfrm>
          <a:prstGeom prst="wedgeRoundRectCallout">
            <a:avLst>
              <a:gd name="adj1" fmla="val -79046"/>
              <a:gd name="adj2" fmla="val -6546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044880" y="51735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5859360"/>
            <a:ext cx="380988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5C8B-0A38-4F86-A0EC-2432159C70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Picture 2.png"/>
          <p:cNvPicPr/>
          <p:nvPr/>
        </p:nvPicPr>
        <p:blipFill>
          <a:blip r:embed="rId1"/>
          <a:stretch/>
        </p:blipFill>
        <p:spPr>
          <a:xfrm>
            <a:off x="762120" y="19051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981080" y="1981080"/>
            <a:ext cx="6705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 –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diagram or create a flow chart that would help someone understand how to solve your equation. (BI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i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320E-8D6A-4F11-9C20-E9E47190A2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 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385-48CB-4137-AD0E-DA550DB764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Picture 2.png"/>
          <p:cNvPicPr/>
          <p:nvPr/>
        </p:nvPicPr>
        <p:blipFill>
          <a:blip r:embed="rId1"/>
          <a:stretch/>
        </p:blipFill>
        <p:spPr>
          <a:xfrm>
            <a:off x="380880" y="1219320"/>
            <a:ext cx="119376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Picture 2.png"/>
          <p:cNvPicPr/>
          <p:nvPr/>
        </p:nvPicPr>
        <p:blipFill>
          <a:blip r:embed="rId1"/>
          <a:stretch/>
        </p:blipFill>
        <p:spPr>
          <a:xfrm>
            <a:off x="304920" y="838080"/>
            <a:ext cx="1193760" cy="19051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 (BI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590B-511F-4488-AB4A-EDF92878F3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icture 3.png"/>
          <p:cNvPicPr/>
          <p:nvPr/>
        </p:nvPicPr>
        <p:blipFill>
          <a:blip r:embed="rId1"/>
          <a:stretch/>
        </p:blipFill>
        <p:spPr>
          <a:xfrm>
            <a:off x="152280" y="1219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aw many of these in our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6AF6-7F63-4576-9658-6A638B37F1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about the meaning of linear equations, e.g. what    4x – 2 = 9 mea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2FED-7D8E-4794-99C3-824F2B0F09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 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1FB1-511B-45D0-AF77-2C759453D7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know or what don’t you know about how their equations differ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922-3104-4780-A753-B1618B02D6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884160" y="1895400"/>
            <a:ext cx="7813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ill be given a set of open question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which part of a 3-part lesson would you consider using each question?  Justify your choice using the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vince Me!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E340-874C-4DC4-91B3-B1367BBE80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884160" y="1895400"/>
            <a:ext cx="781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with another p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69C-B386-4419-8D7F-B9ABBC65B7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3:56:47Z</dcterms:created>
  <dc:creator>PSteele</dc:creator>
  <dc:description/>
  <dc:language>en-US</dc:language>
  <cp:lastModifiedBy>Marian Small</cp:lastModifiedBy>
  <dcterms:modified xsi:type="dcterms:W3CDTF">2009-10-29T04:56:05Z</dcterms:modified>
  <cp:revision>420</cp:revision>
  <dc:subject/>
  <dc:title>Slide 1</dc:title>
</cp:coreProperties>
</file>